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7476-E79A-41B5-9B8C-B9AE07E9B23A}" type="slidenum">
              <a:rPr b="0" lang="pt-B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de apresentação do trabalh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o legal este slide para você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o deve ser explicado pelo Marcelo, não vou comen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É necessário explicar, se precisar eu posso falar desse slide 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qui será interrompido o power point para mostrar o funcionamento do Siste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pe de desenvolvi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Í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amente será lido o que foi escrito nesse slide explicando as dificuldades do ensino a distâ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duas primeiras citações basicamente serão citadas, na terceira é necessário explicar que a estrutura interna do sistema foi desenvolvida com a preocupação de facilitar sua ampliação 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o ultimo tópico, a justificativa é que as tecnologias envolvidas são gratui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amente é um resumo do capítulo dois do trabalho. Um exemplo, nos pilares do e learning será necessário apenas informar que é a tecnologia, conteúdo  e  gestão sendo que na falta de um desses elementos, torna incompleto um projeto de ensino a distâ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 que vu fa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3D98-2071-48CD-A0B1-A43DB06D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DC23-800D-4089-AB90-386D8353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F302-0337-4B6C-9538-F7D0837E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BC98-03F5-49C9-A026-5D1E1FED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7D9D-6AD1-43AE-BD3E-BED36266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BFEB-5338-4EFD-A49D-68030282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C5D6-30BC-43F1-9924-D56159A2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F98B-DD84-44C8-B671-95A11B33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BC38-8CB9-4064-B814-654CC048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28AD-F073-46E5-828C-F4BA376F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82E0-E744-4147-9A0C-230BA419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F84-9324-4E27-A0D4-60C50669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F428-EDED-4794-928E-5BE1AEE3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A314-C5DA-44EE-9F5C-19F95930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714D-3EEC-46D0-9C06-146C3032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39AC-D221-411D-B756-923BE679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60CA-C905-4F60-A3BB-45C0E2DC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3473-0EAF-4D8C-9230-801E1E5A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37D3-AECF-4508-9CF4-05D602D1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D204-A6BF-4C1A-8973-194A2A5A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0E97-5DF8-4AF7-98AE-9E4FDDE1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723D-6D24-4145-9679-C035CDF5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D143-2BA7-4AE0-94A8-0FB78428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6985-A39E-44F7-861A-FBF2D907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6D23-A542-48D9-B753-85908413C6D1}" type="slidenum">
              <a:rPr b="0" lang="pt-B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21000"/>
            <a:ext cx="9009000" cy="1052280"/>
            <a:chOff x="0" y="242100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28640"/>
              <a:ext cx="711360" cy="474480"/>
              <a:chOff x="290520" y="252864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2864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2864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50920"/>
              <a:ext cx="737640" cy="474480"/>
              <a:chOff x="414360" y="295092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5092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5092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7784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210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4216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BC4C-BA79-4F38-9A19-383AF48B90A7}" type="slidenum">
              <a:rPr b="0" lang="pt-B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816680" y="3500280"/>
            <a:ext cx="1003320" cy="622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378080" y="1125360"/>
            <a:ext cx="672840" cy="901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348000" y="3933720"/>
            <a:ext cx="2378160" cy="427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Sistema de Desenvolvimento e Gerenciamento de Tutorial para Ensino a Distância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odologia Utiliza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470480" y="2747880"/>
            <a:ext cx="0" cy="257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1916280"/>
            <a:ext cx="1306800" cy="869760"/>
          </a:xfrm>
          <a:prstGeom prst="rect">
            <a:avLst/>
          </a:prstGeom>
          <a:gradFill rotWithShape="0">
            <a:gsLst>
              <a:gs pos="0">
                <a:srgbClr val="717ef5">
                  <a:alpha val="52156"/>
                </a:srgbClr>
              </a:gs>
              <a:gs pos="100000">
                <a:srgbClr val="40488c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2022480"/>
            <a:ext cx="12240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marL="743040" indent="-28584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lu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56120" y="3554280"/>
            <a:ext cx="1306800" cy="870120"/>
          </a:xfrm>
          <a:prstGeom prst="rect">
            <a:avLst/>
          </a:prstGeom>
          <a:gradFill rotWithShape="0">
            <a:gsLst>
              <a:gs pos="0">
                <a:srgbClr val="00ff00">
                  <a:alpha val="52156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64000" y="3606840"/>
            <a:ext cx="17812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marL="743040" indent="-28584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municad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5335560"/>
            <a:ext cx="1306800" cy="871560"/>
          </a:xfrm>
          <a:prstGeom prst="rect">
            <a:avLst/>
          </a:prstGeom>
          <a:gradFill rotWithShape="0">
            <a:gsLst>
              <a:gs pos="0">
                <a:srgbClr val="ffff00">
                  <a:alpha val="52156"/>
                </a:srgbClr>
              </a:gs>
              <a:gs pos="100000">
                <a:srgbClr val="9292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5407200"/>
            <a:ext cx="16398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marL="743040" indent="-28584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63640" y="3552840"/>
            <a:ext cx="1306440" cy="871560"/>
          </a:xfrm>
          <a:prstGeom prst="rect">
            <a:avLst/>
          </a:prstGeom>
          <a:gradFill rotWithShape="0">
            <a:gsLst>
              <a:gs pos="0">
                <a:srgbClr val="ff0000">
                  <a:alpha val="52156"/>
                </a:srgbClr>
              </a:gs>
              <a:gs pos="100000">
                <a:srgbClr val="92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3573360"/>
            <a:ext cx="1690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marL="743040" indent="-28584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specialis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29280" y="2316240"/>
            <a:ext cx="1387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24240" y="2316240"/>
            <a:ext cx="138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24240" y="2303640"/>
            <a:ext cx="0" cy="124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16720" y="2303640"/>
            <a:ext cx="0" cy="124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24240" y="4424400"/>
            <a:ext cx="0" cy="217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24240" y="6594480"/>
            <a:ext cx="409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516720" y="4424400"/>
            <a:ext cx="0" cy="217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83040" y="4254480"/>
            <a:ext cx="86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43440" y="4241880"/>
            <a:ext cx="0" cy="10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97520" y="4254480"/>
            <a:ext cx="84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97520" y="4241880"/>
            <a:ext cx="0" cy="110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5589720"/>
            <a:ext cx="8642160" cy="71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8f22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quivos base do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4869000"/>
            <a:ext cx="720072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ript do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61080" y="3319560"/>
            <a:ext cx="1008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97080" y="1844640"/>
            <a:ext cx="647640" cy="30592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Ê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8160" y="1844640"/>
            <a:ext cx="647640" cy="30592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Á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57800" y="1844640"/>
            <a:ext cx="647640" cy="30592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Ó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92720" y="1844640"/>
            <a:ext cx="647640" cy="30592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00720" y="1844640"/>
            <a:ext cx="647640" cy="30592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99800" y="6202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cnologias Utiliza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6918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ML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HTML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S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s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740720" y="5877000"/>
            <a:ext cx="1079280" cy="380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0920" y="5889600"/>
            <a:ext cx="1008000" cy="3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ã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000" y="2133720"/>
            <a:ext cx="763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rciona maior comodidade a instituição que aderir esse sistem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 acessível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cessita de um bom conteúdo didático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envolveu-se um manual para orientar o usuário na utilização dos recursos oferecidos pela ferrament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rovação em congressos como CONIC e SB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812000" y="5877000"/>
            <a:ext cx="1003320" cy="62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1988640"/>
            <a:ext cx="73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monstraçã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824280" y="3429000"/>
            <a:ext cx="1827360" cy="11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934320" y="2584440"/>
            <a:ext cx="860400" cy="8445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gunta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143000" y="2584440"/>
            <a:ext cx="860400" cy="8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qui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riano Almeida Sil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celo Maciel Roch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celo Santos do Nasci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cos Vinicius Gat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59436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rientação: André Luis Lapo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mo da Apresentaçã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42483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 que é este sistema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iv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cipais Característ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-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odologia Utiliz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33760" y="2349360"/>
            <a:ext cx="348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nologias Utiliz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onstr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gunt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8920" y="62028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 que é este sistema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rciona o gerenciamento e desenvolvimento do material de estu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tiliza as vantagens do estudo a distânci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524720" y="5373720"/>
            <a:ext cx="1314360" cy="1147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55640" y="2133720"/>
            <a:ext cx="77724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çã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lhorar as plataformas existent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rimorar o processo de ensino-aprendizage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borar um sistema que funciona nas principais plataformas operaciona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ti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envolver uma ferramenta de baixo custo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ar e facilitar o acesso ao estudo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envolver uma estrutura adaptável e de fácil redimensionam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ncipais Característi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684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stema web que funciona nos principais navegador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envolvido para proporcionar estudo on-line e off-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093080" y="5589720"/>
            <a:ext cx="171432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1440" y="6202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 - 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rque utilizar o ensino a distânci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la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-Learning no Bras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turo da educação à distân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144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odologia Utiliza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20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stema desenvolvido a partir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os informático - pedagógicos propos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r Goar Jacindo Diaz Acosta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028000" y="5229360"/>
            <a:ext cx="673200" cy="90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6T01:20:30Z</dcterms:created>
  <dc:creator>Marcelo Santos do Nascimento</dc:creator>
  <dc:description/>
  <cp:keywords>TCC; FMU</cp:keywords>
  <dc:language>en-US</dc:language>
  <cp:lastModifiedBy>André</cp:lastModifiedBy>
  <dcterms:modified xsi:type="dcterms:W3CDTF">2005-12-07T02:53:04Z</dcterms:modified>
  <cp:revision>221</cp:revision>
  <dc:subject>Trabalho de Conclusão de Curso</dc:subject>
  <dc:title>Apresentação do PowerPoint</dc:title>
</cp:coreProperties>
</file>